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C6BF00-F929-4C9B-B7CB-D4F34CB76F4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F82949-56D6-4B88-A799-FC5B48CE30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ED8FBB-5BCC-4897-B085-09970609B0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C79C3D-2937-4072-B307-8B6033F2F2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3AEC0C-4351-4660-9173-936F25D784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026D8E-8F82-45DF-B094-92332561A5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786ADA-F24B-4D64-95A5-E160E083D36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B9FF5C-77BC-44AA-BF7C-D2C33E605D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83C2BF-D2F6-4745-A29D-F3E7A38C62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C6D2F1-6766-4C7D-9B54-E8B09F428E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C5F696-A8D8-4F4C-AB44-8E762C5BC6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B910-D7D7-424D-AD11-AE049E1D0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4806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7280" y="1912680"/>
            <a:ext cx="8674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7280" y="4202280"/>
            <a:ext cx="8674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585B-6BDA-4C55-9383-D1FB088E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4806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7280" y="1912680"/>
            <a:ext cx="4232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92200" y="1912680"/>
            <a:ext cx="4232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7280" y="4202280"/>
            <a:ext cx="4232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92200" y="4202280"/>
            <a:ext cx="4232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8E58-3C10-43D5-AA62-BA1108187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4806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7280" y="1912680"/>
            <a:ext cx="2792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0200" y="1912680"/>
            <a:ext cx="2792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3120" y="1912680"/>
            <a:ext cx="2792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7280" y="4202280"/>
            <a:ext cx="2792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0200" y="4202280"/>
            <a:ext cx="2792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3120" y="4202280"/>
            <a:ext cx="2792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4639-02D0-45C8-817E-0C5AB00FB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6B89-40C4-4D56-BE81-3B94C7C7B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4806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47280" y="1912680"/>
            <a:ext cx="86742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4863-8564-4A65-A487-75A11BCD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4806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7280" y="1912680"/>
            <a:ext cx="86742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850B-D865-484C-BA55-B7D5110C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4806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7280" y="1912680"/>
            <a:ext cx="42328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92200" y="1912680"/>
            <a:ext cx="42328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63D0-7BF7-4346-8214-99C2EAA9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4806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1F14-595A-4C52-87AB-A96886E6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48060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6E5FA-15B1-4064-B246-E424A39E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4806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47280" y="1912680"/>
            <a:ext cx="4232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2200" y="1912680"/>
            <a:ext cx="42328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47280" y="4202280"/>
            <a:ext cx="4232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0CAC-97AC-452F-A7F7-11596655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4806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7280" y="1912680"/>
            <a:ext cx="86742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582A-927D-4D53-8CD2-302FE8D6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4806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7280" y="1912680"/>
            <a:ext cx="42328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92200" y="1912680"/>
            <a:ext cx="4232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92200" y="4202280"/>
            <a:ext cx="4232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ECD1-D2EA-4222-BFFB-0C402E91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4806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7280" y="1912680"/>
            <a:ext cx="4232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92200" y="1912680"/>
            <a:ext cx="4232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47280" y="4202280"/>
            <a:ext cx="8674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45AF1-73FE-4295-B4BE-E651FBE6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4806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7280" y="1912680"/>
            <a:ext cx="8674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47280" y="4202280"/>
            <a:ext cx="8674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B4AE-D7F6-4444-BF87-8F4FE540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4806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47280" y="1912680"/>
            <a:ext cx="4232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92200" y="1912680"/>
            <a:ext cx="4232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7280" y="4202280"/>
            <a:ext cx="4232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92200" y="4202280"/>
            <a:ext cx="4232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1759-07CA-40F0-BE40-B23A51D1C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4806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7280" y="1912680"/>
            <a:ext cx="2792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0200" y="1912680"/>
            <a:ext cx="2792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13120" y="1912680"/>
            <a:ext cx="2792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47280" y="4202280"/>
            <a:ext cx="2792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0200" y="4202280"/>
            <a:ext cx="2792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13120" y="4202280"/>
            <a:ext cx="2792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FE1B0-4214-4A73-9B44-7460AEF86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4806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7280" y="1912680"/>
            <a:ext cx="86742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3282-4E4D-499B-8B1D-6913E4B9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4806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7280" y="1912680"/>
            <a:ext cx="42328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92200" y="1912680"/>
            <a:ext cx="42328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FE0B-A330-46DA-90FE-9B57BC37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4806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E52C-7FE3-4158-97F5-923F677B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48060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503B-ECBB-46C9-B471-D84F2B5A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4806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7280" y="1912680"/>
            <a:ext cx="4232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92200" y="1912680"/>
            <a:ext cx="42328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7280" y="4202280"/>
            <a:ext cx="4232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154B-E48A-45F2-B51E-BDE14097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4806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280" y="1912680"/>
            <a:ext cx="42328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92200" y="1912680"/>
            <a:ext cx="4232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92200" y="4202280"/>
            <a:ext cx="4232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A6E0-0695-46FB-9F74-C6885242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4806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7280" y="1912680"/>
            <a:ext cx="4232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92200" y="1912680"/>
            <a:ext cx="4232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7280" y="4202280"/>
            <a:ext cx="8674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F301-1D93-4561-A5B8-26435318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DCCA6D4-CCF9-49C6-972C-66058B2C36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4806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47280" y="1912680"/>
            <a:ext cx="86742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5278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11000" y="652788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154640" y="65278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8A5BF9F-B81D-4C9C-88BE-5C73E6A6EE2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 празднику числа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12720" y="4282560"/>
            <a:ext cx="70567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обычные факты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280" y="1439640"/>
            <a:ext cx="8675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анием Музея искусств в Сиэтле Памятник числу «пи» на ступенях перед  зданием Музея искусств в Сиэтл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759280" y="2376360"/>
            <a:ext cx="3095640" cy="2880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936720" y="5616720"/>
            <a:ext cx="74152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Существует художественный фильм, названный в че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числа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>
            <a:off x="1440000" y="2451240"/>
            <a:ext cx="2624040" cy="316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47280" y="1912680"/>
            <a:ext cx="8675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ша математика очень увлекательная и надо её учить. В ней ещё много секретов.  Может кто-нибудь из вас откроет тайну числа «п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2448000" y="3514680"/>
            <a:ext cx="619128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  <a:ea typeface="Arial Unicode MS"/>
              </a:rPr>
              <a:t>Конец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1640" y="393480"/>
            <a:ext cx="907128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исло </a:t>
            </a:r>
            <a:r>
              <a:rPr b="0" lang="ru-RU" sz="4400" spc="-1" strike="noStrike">
                <a:solidFill>
                  <a:srgbClr val="000000"/>
                </a:solidFill>
                <a:latin typeface="Gabriola"/>
              </a:rPr>
              <a:t>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368360" y="2519280"/>
            <a:ext cx="2664000" cy="2335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4392720" y="2243160"/>
            <a:ext cx="3527280" cy="344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8560" y="363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такое число </a:t>
            </a:r>
            <a:r>
              <a:rPr b="0" lang="ru-RU" sz="4400" spc="-1" strike="noStrike">
                <a:solidFill>
                  <a:srgbClr val="000000"/>
                </a:solidFill>
                <a:latin typeface="Gabriola"/>
              </a:rPr>
              <a:t> П?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47280" y="792000"/>
            <a:ext cx="8675640" cy="455616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t">
            <a:normAutofit fontScale="86000"/>
          </a:bodyPr>
          <a:p>
            <a:pPr marL="294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briol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Gabriola"/>
              </a:rPr>
              <a:t>Число П- математическая константа (3,1415…), выражающая отношение длины окружности к длине её диаметра. Функция, показывающая количество простых чисел, не превосходящих  X. Обозначается буквой греческого алфавита «пи». Старое название —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Gabriola"/>
              </a:rPr>
              <a:t>лудольфово</a:t>
            </a:r>
            <a:r>
              <a:rPr b="0" lang="ru-RU" sz="4000" spc="-1" strike="noStrike">
                <a:solidFill>
                  <a:srgbClr val="000000"/>
                </a:solidFill>
                <a:latin typeface="Gabriola"/>
              </a:rPr>
              <a:t>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Gabriola"/>
              </a:rPr>
              <a:t>число</a:t>
            </a:r>
            <a:r>
              <a:rPr b="0" lang="ru-RU" sz="4400" spc="-1" strike="noStrike">
                <a:solidFill>
                  <a:srgbClr val="000000"/>
                </a:solidFill>
                <a:latin typeface="Gabriol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нь числа </a:t>
            </a:r>
            <a:r>
              <a:rPr b="0" lang="ru-RU" sz="4400" spc="-1" strike="noStrike">
                <a:solidFill>
                  <a:srgbClr val="000000"/>
                </a:solidFill>
                <a:latin typeface="Gabriola"/>
              </a:rPr>
              <a:t>П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7280" y="1743120"/>
            <a:ext cx="8675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нь числа «пи» отмечается любителями математики 14 марта в 13:59, и предпочитают отмечать ночью. Этот неофициальный праздник придумал в 1987 году физик Ларри Шоу, который подметил, что в американской системе записи дат (месяц / число) дата 14 марта — 3/14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6048360" y="4464000"/>
            <a:ext cx="3600360" cy="29718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3600360" y="6343560"/>
            <a:ext cx="2905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Ларри Шо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76000" y="863640"/>
            <a:ext cx="8675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это время читают хвалебные речи в честь числа π, его роли в жизни человечества, рисуют антиутопические картины мира без π, пекут и едят «пи-рог», с изображением греческой буквы «пи» или с первыми цифрами самого числа, пьют напитки и играют в игры, начинающиеся на «пи», решают математические головоломки и загадки, водят хороводы вокруг предметов, связанных с этим числ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6672240" y="4176720"/>
            <a:ext cx="2905200" cy="2774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4319640" y="431964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3"/>
          <a:stretch/>
        </p:blipFill>
        <p:spPr>
          <a:xfrm>
            <a:off x="1368360" y="4680000"/>
            <a:ext cx="287964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4000" y="792000"/>
            <a:ext cx="8675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ень числа «Пи» отмечают учителя математики и любители математики во всем мир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720720" y="2808360"/>
            <a:ext cx="3600360" cy="4032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5111640" y="3816360"/>
            <a:ext cx="3816360" cy="25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рия числа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47280" y="1447560"/>
            <a:ext cx="8675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первые обозначением этого числа </a:t>
            </a:r>
            <a:r>
              <a:rPr b="0" lang="ru-RU" sz="4400" spc="-1" strike="noStrike">
                <a:solidFill>
                  <a:srgbClr val="000000"/>
                </a:solidFill>
                <a:latin typeface="Gabriola"/>
              </a:rPr>
              <a:t>П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реческой буквой  воспользовался британский математик Джонс в 1706 году, а общепринятым оно стало после работ Леонардо Эйлера в 1737 год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224000" y="4354560"/>
            <a:ext cx="2160720" cy="2557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6983280" y="4176720"/>
            <a:ext cx="2376720" cy="25923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5472000" y="6141960"/>
            <a:ext cx="22320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Леонард Эйл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095640" y="4535640"/>
            <a:ext cx="220644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жон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12360" y="863640"/>
            <a:ext cx="8675640" cy="59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обозначение происходит от начальной буквы греческих слов περιφέρεια — окружность, периферия и περίμετρος — перимет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тория числа  шла параллельно с развитием всей математики. Некоторые авторы разделяют весь процесс на 3 периода: древний период, в течение которого  изучалось с позиции геометрии, классическая эра, последовавшая за развитием математического анализа в Европе в XVII веке, и эра цифровых компьютер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ерешённые проблемы с числом </a:t>
            </a:r>
            <a:r>
              <a:rPr b="0" lang="ru-RU" sz="4000" spc="-1" strike="noStrike">
                <a:solidFill>
                  <a:srgbClr val="000000"/>
                </a:solidFill>
                <a:latin typeface="Gabriola"/>
              </a:rPr>
              <a:t>П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920" y="1663560"/>
            <a:ext cx="8675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известно, являются ли число </a:t>
            </a:r>
            <a:r>
              <a:rPr b="0" lang="ru-RU" sz="2800" spc="-1" strike="noStrike">
                <a:solidFill>
                  <a:srgbClr val="000000"/>
                </a:solidFill>
                <a:latin typeface="Gabriola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алгебраически независимы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 сих пор ничего неизвестно о нормальности числа ; неизвестно даже, какие из цифр 0—9 встречаются в десятичном представлении числа  бесконечное количество ра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известна точная мера иррациональности  для числа «пи» (но известно, что  она не превышает 7,606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9T10:50:22Z</dcterms:created>
  <dc:creator/>
  <dc:description/>
  <dc:language>en-US</dc:language>
  <cp:lastModifiedBy>Русинская СОШ</cp:lastModifiedBy>
  <dcterms:modified xsi:type="dcterms:W3CDTF">2023-03-05T16:36:13Z</dcterms:modified>
  <cp:revision>9</cp:revision>
  <dc:subject/>
  <dc:title>Число П</dc:title>
</cp:coreProperties>
</file>